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4CA7-F178-47FC-AA64-87496BAD6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CD82-7F84-4606-9CE6-51C0166F1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951B-C539-45CF-9D3B-C22B46492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5F47-ED6D-49B0-9C7E-6D1E1A42E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1FD2A-7906-4EA2-98B4-8914911DD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4F623-1963-45FB-9EE0-1677F34D6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437B7-9725-4001-A594-FB98997CC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29E44-CE52-4123-A480-249D5F281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DA2E5-BD67-43B9-B7D4-6F49C737B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14262-8406-4A21-805B-037CEC356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6CF83-9551-409B-88C1-1B4D8995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02ED-DCD6-4703-B167-45B46EF34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1BB56-08AB-4562-B9FA-7E77D379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87B4A-395E-49FB-B63D-957D86AB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291FA-5D44-4C29-955E-A2B270453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C2BB9-A896-405D-AF23-138BAFAF8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488F8-9F36-432E-91E3-490937309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5A16-4A39-4B7E-A288-2A4F5559E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CFB3-6724-40F4-BC31-A2097BA90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0E38-4B7B-40F0-9CB0-B23391864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B887-73EC-4773-BB98-C645EC1C5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691C-5177-4D1F-B235-4DB5937A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3BC0-6315-42F5-8179-14656BD0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A206-D40F-4E7F-8E3C-38A36F9D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CEA59-A93E-430F-B95E-07C6454538D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C9FE9-98B1-41BB-8A61-1AEC121AC06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1332000" y="1638360"/>
          <a:ext cx="4214880" cy="488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638360"/>
                    <a:ext cx="4214880" cy="48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5640" y="342720"/>
            <a:ext cx="7488360" cy="1150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17 ГОД И ПЛАНОВЫЙ ПЕРИОД 2018-2019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6-12-23T00:21:30Z</dcterms:modified>
  <cp:revision>39</cp:revision>
  <dc:subject/>
  <dc:title>Структура собственных доходов на 2016 год бюджета Дальнереченского городского округа</dc:title>
</cp:coreProperties>
</file>